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0AD-E982-491C-8B5F-2FF8B3DA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0D2-62FD-49B8-AE96-9181BC3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AB5-0418-4AA2-AA24-B712A360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FC4-6BE6-4F4E-9610-EDFFBAC6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E36-2DB6-46B3-A6AE-CCCF281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C7E-2A73-48E7-976B-F3924F23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E03-3178-4906-A92F-E90297E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C2F-E44C-4D17-AD24-8CCA0F87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7C9-A7B1-47B9-A803-4B513946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C00-5B71-434C-9307-2071C37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414-F2B1-4277-957A-A75F947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19B-17AD-491C-971E-C661BE24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81B-9573-44EA-97E4-9B6BFA65F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5 CP/GH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Igneous R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from crystallized mag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va = magma that flowed out onto Earth’s su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n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tin for “f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usive (fine-grained, cool 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usive (course-grained, cool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ma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Si, Al, Fe, Mg, Ca, K an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% of Earth’s curst is 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ag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oli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si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ma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temperatures: 8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1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, pressure and water content all affect ma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 gradient (page 1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curve (page 1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Melting – process when some minerals melt while others remain sol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hocolate chips in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Crystallization – process of cooling in the reverse order of me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wen’s Reactio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logist Neil L. Bow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form in predictable patter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spars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versus iron (Fe) 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bow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Compos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sic - light colored rocks such as granite Mafic – dark colored rocks such as basal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mafic – very high levels of iron, low silic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le 5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s as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mat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ber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6:45:35Z</dcterms:created>
  <dc:creator>staff</dc:creator>
  <dc:description/>
  <dc:language>en-US</dc:language>
  <cp:lastModifiedBy>staff</cp:lastModifiedBy>
  <dcterms:modified xsi:type="dcterms:W3CDTF">2007-11-30T19:23:47Z</dcterms:modified>
  <cp:revision>10</cp:revision>
  <dc:subject/>
  <dc:title>Rocks Ch 5 CP/GHP Book</dc:title>
</cp:coreProperties>
</file>